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AA5EF-1269-4512-936B-A9B96CAED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031CB-F1B7-4AAA-9498-7E433619A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3E659-BA2A-4EB4-9527-DD25BE428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687CC4-12D3-4851-8FE5-C6F66B430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E1C923-723A-4B10-A68F-587F90F70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91130-4338-44BF-9FB9-381D50D41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6CBDE-9D83-40FB-BA07-7758180C8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D4A9E2-B0B9-4619-92E2-5B0635D62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BFF0A0-8C41-4144-841A-1357C335D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333FF-BC55-4E07-A650-D50CF6655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7F78C-221E-470B-BF06-67EF56700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F2D58-584A-4620-BFAA-033B1296D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904C-CADF-49D9-A2F0-3AEE846A04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s of Delphi and MS Acces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2057040"/>
            <a:ext cx="6400800" cy="4343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el Ive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nior Develop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frastructure Enhancements Team</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kland Office of Information Field Office (Located in Seattl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t of Veterans Affai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iguring for ADO</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easiest way is in Delphi by adding a AdoConnection component and double clicking on the ConnectionString property in the object edito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Use Connection String’ selected click on the ‘Build’ butt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Microsoft Jet 4.0 OLE DB Provider from the list and click ‘Nex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iguring for ADO 2</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Connection page enter the path and directory name, or select it using the ellipsis button at the end of the edit box</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this is completed, you can click on the ‘Test Connection’ button to make sure that it is set up correctly.  Click OK to return to the Object Inspecto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iguring for ADO 3</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also use a Data Link file to specify your desired database.  These are unicode files which contain the basic information as the connection string, and have a UDL extens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le they could be stored in any directory, the default directory in which they will be searched for is C:\Program Files\Common Files\System\Ole db\Data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s should probably be there as we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iguring ADO 4</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systems other than Window 2000 and Millenium, which contain the MDAC package (needed for ADO to work), you can create a Data Link file by right clicking in Windows Explorer and selecting New then select Microsoft Data Lin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creates a file named New Microsoft Data Link.UDL which should be renamed to whatever you wa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iguring ADO 5</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uble click on the new file and and Data Link Properties form opens up.  The first tab is the Provider and should be set to Jet 4.0, the second tab (which it opens up to) is used, as before, to set the file directory and na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iguring ADO 6</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Win 2000 and Me you need to either use Visual Basic 6 or download a file (UdlW2000.exe) from the microsoft download center.  This file contains two .reg files one will restore the ability to create Data Link files as a right click.  The other backs it out again….  You normally won’t want to apply both.</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L Tester from Red Brook Software, Inc.</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L Tester is an application which permits testing of SQL statements and storing them into a database so they can be retrieved or modified when desi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a stand-alone program and does not tie into Delphi but is intended for anyone working with SQL statement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uggested retail cost is $195.</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L Tester</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e productivity by testing SQL statements before loading them from files or embedding them in code. SQL Tester makes it easy to use Delphi's </a:t>
            </a:r>
            <a:r>
              <a:rPr b="0" i="1" lang="en-US" sz="2800" spc="-1" strike="noStrike">
                <a:solidFill>
                  <a:srgbClr val="000000"/>
                </a:solidFill>
                <a:latin typeface="Arial"/>
              </a:rPr>
              <a:t>LoadFromFile</a:t>
            </a:r>
            <a:r>
              <a:rPr b="0" lang="en-US" sz="2800" spc="-1" strike="noStrike">
                <a:solidFill>
                  <a:srgbClr val="000000"/>
                </a:solidFill>
                <a:latin typeface="Arial"/>
              </a:rPr>
              <a:t> method to assign SQL statements to the SQL property at runtime. SQL Tester can access SQL Server, Oracle, InterBase, Paradox, Access, and other databases through ADO data link files with OLE DB providers or BDE aliases with SQL Link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L – An Overview</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QL - Structured Query Langua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o work with and modify many relational databas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ts of Sources of info on the web</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sqlcourse.co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ww.sqlcourse2.c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L - Table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unit of related data is stored in a table, where the rows represent different data records and the columns represent different fields or attributes for each recor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ider a Table (Books) with fields BookID, Title, and AuthorI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a Table (Authors) with fields AuthorID and AuthorNa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view</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this?  Why m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guring the BD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figuring AD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ing SQL Tester</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phi and MS Access via ODBC</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phi and MS Access via ADO</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mmary &amp; Ques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L – Select Statement</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 From database;     (selects all field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field1, field2, field3</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databas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Title, Author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Book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L – Where Statement</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d to select on a conditional basi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field1, field2, field3</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tablen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field1 &gt; 2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L - Conditionals</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ditional Operators</a:t>
            </a:r>
            <a:endParaRPr b="0" lang="en-US" sz="32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Equal</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   Greater than</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   Less than</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t;=</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t;=</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or &lt;&gt;</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              (% is wildcard charact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L – Other Conditionals</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Field In (list-of-value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uthorName In (‘McConnell’,’Parker’,’Hillerman’,’Cook’,Emerson)</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field1 Between value1 and value2</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Title Between ‘A’ and ‘C’</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L – Inner Joi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mits data from related tables to be selecte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itle, AuthorNam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Books, Autho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Books.AuthorID = Authors.AuthorI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L – Create a Table</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37124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Table “Tablenam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eld1” “datatype” [constrai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Field2” “datatype” [constrain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 Table Em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Id number(5) primary ke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rst varchar(15),</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t varchar(30),</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ge number(3),</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x char(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L – Insert Record</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into “Tablenam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column,…,lastcolumn)</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es (first column,…,lastcolumn);</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sert into Book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tle, AuthorID)</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ues (‘Deception Pass’, 7);</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L – Update Record</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tablename”</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t  “fieldname1” = “newvalue1”[, “fieldname2”=“newvalue2”]</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re fieldname1 operator value [and|or fieldname2 operator value2];</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pdate Author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t AuthorName = ‘McConnell’ where AuthorName = ‘MacConnel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L – Delete Record</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ete from “tablenam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Fieldname1 operator value1 [and|or Fieldname2 operator value2];</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lete from Autho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uthorName = ‘McConnell’;</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rning--- Omission of the WHERE clause will delete ALL reco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L – Order By</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fieldname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ablenam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der By “columnlist” [ASC|DESC];</a:t>
            </a:r>
            <a:endParaRPr b="0" lang="en-US" sz="2800" spc="-1" strike="noStrike">
              <a:solidFill>
                <a:srgbClr val="000000"/>
              </a:solidFill>
              <a:latin typeface="Times New Roman"/>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AuthorName, Titl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Books, Authors</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Books.AuthorID = Authors.AuthorID</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der By Author DESC;</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y This, Why Me?</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QL Tester’ package needed a tester</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my experience with Delphi has been non-Database at least as Delphi thinks of i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figured I would learn some SQ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figured I would work with databas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figured I would learn some things by teach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L – Group By</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column1, SUM(column2)</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list-of-tabl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By “columnlist’;</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Max(NumPages),Categor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om Book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By Categ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L - Having</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field1, Sum(field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table1, table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By field1</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ing condition;</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lect Avg(NumPages), Catego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om Boo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oup by Categor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Avg(NumPages) &gt; 60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800" y="533160"/>
            <a:ext cx="7772400" cy="6019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rowed from Lance Young (Asix) at an eXtreme Programming presentatio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laimer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 know nothing about SQL (Unit Test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 know nothing about Databases (Juni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 know nothing about Delphi (XP)</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 learn by teaching</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 will teach you what I don't know</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n I will know.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600" y="609120"/>
            <a:ext cx="6324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iguring the BDE for MS Access Via ODBC</a:t>
            </a:r>
            <a:endParaRPr b="0" lang="en-US" sz="4400" spc="-1" strike="noStrike">
              <a:solidFill>
                <a:srgbClr val="000000"/>
              </a:solidFill>
              <a:latin typeface="Times New Roman"/>
            </a:endParaRPr>
          </a:p>
        </p:txBody>
      </p:sp>
      <p:sp>
        <p:nvSpPr>
          <p:cNvPr id="49" name="PlaceHolder 2"/>
          <p:cNvSpPr>
            <a:spLocks noGrp="1"/>
          </p:cNvSpPr>
          <p:nvPr>
            <p:ph/>
          </p:nvPr>
        </p:nvSpPr>
        <p:spPr>
          <a:xfrm>
            <a:off x="762120" y="228600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mplished via the BDE Administrator Program under the Start|Programs|Delphi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 via Explore on the right click menu of Ttable, Tdatabase, Tquery components (SQL Explor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iguring for ODBC 2</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click on the database icon in SQL Explorer or in BDE Administra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ODBC Administrator from the context menu</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on 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Microsoft Access Driver (*.mdb) and press Finis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iguring for ODBC 3</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 the ODBC MS Access Setup fo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a brief Data Source Name for the database – this is what it will be known 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er a description for the database if desire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s the Select… button to navigate to your databa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figuring for ODBC 4</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lect the database and click O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OK in the ODBC MS Access Setup form to return to the original for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Click on REFRESH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database name should show up in the list in either of the tools, and is available to select from BDE-aware database compone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240"/>
            <a:ext cx="769608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vailability of ADO Component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O is available in the Delphi 5 Client/Server package, or as an add-on to Delphi 5 Professional (at $199).</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are references on the web to a freeware, open source ADO implementation at www.alohaoi.com -- I haven’t been able to connect to it.</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re is a commercial package of components at www.gm-software.de which, looking at a time-limited version, seems fairly good (which sells for about US$ 99 for source c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9T21:57:03Z</dcterms:created>
  <dc:creator>VHAISFIVEYJ</dc:creator>
  <dc:description/>
  <dc:language>en-US</dc:language>
  <cp:lastModifiedBy>VHAISFIVEYJ</cp:lastModifiedBy>
  <dcterms:modified xsi:type="dcterms:W3CDTF">2001-04-09T21:23:40Z</dcterms:modified>
  <cp:revision>5</cp:revision>
  <dc:subject/>
  <dc:title>Basics of Delphi and MS Access</dc:title>
</cp:coreProperties>
</file>